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BB7-32DA-4A92-9476-B80341D8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EB1-9956-4057-8D11-DBFE3D2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FC1-5B12-4B43-A51B-9806F943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828-BD07-462C-9998-44E70919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645-C0B3-46CC-9E1B-825BEB4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1A6-8F66-4B79-BBB0-67DB5BA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C3E-7235-4D27-9C1C-855A798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5AF-54C8-4151-A164-24008B10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FE2-7F71-4C13-BB55-18F4198C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72F-F558-46AC-AE92-FA5CA507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539-78F1-4305-B93C-E671311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898-CDE1-42E4-9D05-44986B0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AA85982D-08DD-4AA1-8591-14C6E3B80582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000" y="104713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I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27Z</dcterms:modified>
  <cp:revision>53</cp:revision>
  <dc:subject/>
  <dc:title>Slide sem título </dc:title>
</cp:coreProperties>
</file>